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0E96-3805-4E3B-8455-A69FA568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69D4-DBCB-49FD-9BCE-2088DFD8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21B5-6D77-4C51-A4B8-1B0F87F8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C7EB-2FE4-42CA-B0A4-62BC95AC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BC09-23AC-40E4-9BD4-19605149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F706-8D69-4B4C-8B8C-17EE813C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9819-4D84-464E-ACFD-85800FB0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C7A6-F42C-4476-9DE1-A692E951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1BDF-26B7-4E86-99E9-06ED0440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852C-F760-4A83-B39F-6292807E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7E45-80AD-4C88-9100-75E7D139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B1CD-0660-4A01-B7A2-2384D7E4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CBB5-EF5C-4812-9875-A0349A73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50CB-0FA1-491F-A46B-06747F89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5B29-C993-41C0-B46A-647378E0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46CF-8829-412F-9C16-BBBA6580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D3E8-7149-4F8E-9842-7985615C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E0CC-2529-4615-A81F-0FE78DC7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728-2D89-48EA-97EA-CE612DC6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7704-9869-4FAA-BFFE-6064C272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7BE9-564A-494E-955F-5C0570F1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4544-F56D-4FB3-9A7A-BADF2E87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00CA-62F8-4E17-B487-1711098E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5694-70F5-4332-8502-230EB31C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B998-3B29-42B2-8EE4-AF1EB6DBA8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8E53-3FC5-44CA-B14F-F175A07D7C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3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مايو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شطة المرتبطة بالبي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209680"/>
            <a:ext cx="374508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الحدود الأئتمان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2819520"/>
            <a:ext cx="29066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470400"/>
            <a:ext cx="3124080" cy="58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724280"/>
            <a:ext cx="31244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019400"/>
            <a:ext cx="28195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سا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5391000"/>
            <a:ext cx="28958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1523880"/>
            <a:ext cx="35928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صل بين الأختصاصات المتعارض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1523880"/>
            <a:ext cx="22971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دارة 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523880"/>
            <a:ext cx="20685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1523880"/>
            <a:ext cx="214488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بول 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430360"/>
            <a:ext cx="2112840" cy="373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مسلسلة لضمان تسجيل كل طلبات العملا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حدود الأئتمان بواسطة ادارة الأئتما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سعر البيع والخصومات الخاصة بواسطة شخص مسئول فى ادارة البيع وليس فى ادارة الحساب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438280"/>
            <a:ext cx="2112840" cy="297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خروج بضاعة اواذون شحن مسلسلة لكل البضائع التى يتم خروجها من المنشأ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ذلك عن طريق ادارة الشحن او بواسطة حارس البوابة وليس بواسطة عضو من ادارة الحساب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514600"/>
            <a:ext cx="2112840" cy="416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فواتير مسلسل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تم تحريرها بواسطة ادارة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مراجعة للتأكد من أنه قد تم تحرير فواتير لكل البضائع المبينة بأذون الشح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رقابة صارمة على اشعارات الخصم لضمان اصدارها بأعتماد مناسب مقابل اذون ارتجا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1797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حديد حدود ائتمان لكل عم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8600" y="222264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طلبات العملاء مع حساباتهم والحصول على موافقة ادارة الأئتمان فى حالة التجاوز اوالعميل الجديد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78600" y="322884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بيع مسلسلة لتسجيل طلبات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38386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كل طلبات البيع قبل شحن البضا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52448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البيع لأستخراج أذون شحن لخروج البضا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5286240"/>
            <a:ext cx="29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خروج أى بضاعة بدون اذن شحن معتم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06800" y="182556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اذون شحن البضاعة مسلسلة رقميا وان يحتفظ بسجل لها للمطابقة مع فواتير البيع وطلبات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06800" y="304488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عتماد اذون شحن البضائع عند خروج البضائع وان يتم مراجعتها دوريا للتأكد من اكتمالها وان يتم استخراج فواتير لكل منه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90512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فواتير البيع من الشخص المسئول ومراجعتها مع الطلب الأصلى المعتمد واذن الشح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312408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ثبات كل الفواتير واشعارات الخصم فى سجلات يومية المبيعات واستاذ مساعد العملاء واستاذ مراقبة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42670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فواتير البيع واشعارات الخصم بواسطة شخص مستقل عن معد الفواتي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1814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كل الفواتير واشعارات الخصم مسلسة رقميا, وان يتم مراجعة التسلسل بصفة منظم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8288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شعارات الخصم من شخص مشتقل عن اعمال الشحن او القيد فى دفاتر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274320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أحتفاظ بالفواتير الملغا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32004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إلغاء مستندات الشحن المتعلقة بأى فاتورة يتم الغائ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8098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عتمد الفواتير الملغاة او البضاعة المجانية من الشخص المسئو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7242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فصل الأنواع المختلفة من المبيعات وكذا ضريبة المبيعات فى كل فاتورة ب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500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اعتماد اعدام الديون المعدومة كتابة وان تتم التسوية فى استاذ حساب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743200"/>
            <a:ext cx="298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قامة اى دعوى قضائية او اعدام احد الديون بواسطة شخص مسئول وان يكون مستقلا عن عمليات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فحص البضائع التى يتم اعادتها من العملاء وتحديد العيوب الواضحة بها عند استلامها واثبات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78600" y="274320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داد اشعار خصم لجميع البضائع التى يتم اعادتها من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1828800"/>
            <a:ext cx="29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ستكمال حساب مراقبة استاذ العملاء بصفة منتظمة وان يتم مراجعته مع رصيد كل نوع من ارصدة استاذ العملاء المساعد بواسطة شخص مستق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45720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متابعة الديون المتأخرة فى السداد وإعداد قائمة بأعمار الديو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27672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حسابات العملاء مستقلة عن اعمال الشحن او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91464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كشوف حساب الى العملاء بصفة دور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52578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خطابات للعملاء لتحصيل الديون المتأخر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ات 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15145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447920"/>
            <a:ext cx="7543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 اختبار للتاكد من تسلسل الفواتير واشعارات الخصم واذون الشحن وطلبات العمل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2096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حقق من وجود اعتماد مناسب والتأكد من وجود التوقيع المناسب والتحقق من انه يتم تطبيق الرقابة مثل مراجعة دقة التسعير وحدود الأئتما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1000" y="24289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1240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حث عن أدلة لمراجعة الدقة المحاسبية للفواتير وأشعارات الخصم و ضريبة المبيعات وعادة مايتم عن طريق وضع ختم على الفاتورة يتطلب توقيع المراجع والتاكد من تطبيق الرقابة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3276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96252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ذون الشحن واذون ارتجاع البضائع للتأكد من مطابقتها مع الفواتير واشعارات الخصم والعكس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403848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7242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انه قد تم اجراء تسويات حسابات المراقبة وانه قد تم مراجعتها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54100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تطبيق الرقابة على اجماليات كل مجموعة وذلك بالبحث عن التوقيعات وتتبع المجموعات من المدخلات الى المخرجات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80060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1000" y="5562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جلات المحاسب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1905120"/>
            <a:ext cx="2362320" cy="287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دفتر يومية المبيعات ودفتر مرتجعات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ترحيل كل فاتورة الى الأستاذ العام وحساب المراق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قيود اليومية فى دفتر يومية المبيعات ودفتر مرتجعات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371600"/>
            <a:ext cx="2438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واتير المبيعات واشعارات الخص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905120"/>
            <a:ext cx="2438280" cy="56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تسلسل الرقمى للفواتير والسؤال عن الفواتير الغير موجودة وفحص الفواتير الملغا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صور فواتير البيع واشعارت الخصم مع دفتر يومية المبيعات وحسابات استاذ العملاء ومراجعة تحليل المبيعات فى دفتر يومية المبيعات واعتماد اشعارات الخص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لأسعار المدرجة فى الفواتير مع قائمة الأسعار المعتمدةوحدود الأئتمان للعمي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دقة الحسابية لفواتير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شعارات الخصم خاصة البنود الكبيرة او الغير عاد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المخاز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905120"/>
            <a:ext cx="2438280" cy="39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سيتم تغطيتها تفصيلا فى القسم الثانى من هذا الفصل والتالى يستحق عرضه هن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طابقة اذون شحن البضاعة وسجلات البضاعة المنصرفة مع صور فواتير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حركة البضائع المنصرفة بداية من الفاتورة الى اذون الشحن الى سجلات المخازن والعك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البضائع المرتجعة من مستندات الرتجاع الى سجلات المخازن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سابات المراقب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1905120"/>
            <a:ext cx="23623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ختبار تسوية حسابات المراقبة بالرجوع الى اصول المستندات ( مثل فواتير البيع , سجلات المرتجعات, والنقدية) والتأكد من اجراء التسويات المناس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1905120"/>
            <a:ext cx="2438280" cy="46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لب فى مستوى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مستويات المبيعات خلال العام على اساس شهر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ذات الفترة من العام الساب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خر شهر فى العام مع اول شهر فى العام التال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تشير التقلبات من شهرلأخر الى سوء تبويب المبيعات  بين الأشهر  اوحذف مبيعات اووجود مبيعات ذات قيمة عال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ى حالة وجودتقلبات غير مبررة يجب اجراء فحص مستند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فصا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905120"/>
            <a:ext cx="2438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ظهار المبيعات طبقا لنوعية النشاط والموقع الجغرافى للأسوا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حادى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ع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هداف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ختبار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رق</a:t>
            </a: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عض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تحق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6760" y="129528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ناول هذا الف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18240" y="1600200"/>
            <a:ext cx="348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داف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تبار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ات 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81400" y="3581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دورات المحاسبية  الت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3733920"/>
            <a:ext cx="293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تر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ور والمرتب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صول طويلة الأج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5640" y="1295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هد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057400"/>
            <a:ext cx="655344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هم المبادئ العامة للأختبارات فى كل دورة </a:t>
            </a:r>
            <a:r>
              <a:rPr b="0" lang="ar-SA" sz="1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لا من حفظ قوائم طويلة منه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8560" y="1447920"/>
            <a:ext cx="74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37760" y="2057400"/>
            <a:ext cx="107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بب المخاطر التى قد تحدث فى حالة عدم وجود مثل هذه الرقابة على سبيل المث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56272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مثلة على مخاطر عدم وجود رقابة على المبيعات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1371600"/>
            <a:ext cx="1066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رقيم اوامر البي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16002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680" y="1295280"/>
            <a:ext cx="228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ها وعدم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تكرار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8600" y="1295280"/>
            <a:ext cx="53172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ياع فرصة تحقيق اير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سداد قيمة المشتريات التى تكرر استلامهم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6002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2514600"/>
            <a:ext cx="10666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مطابقة اذون الشحن مع الفواتي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28195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71040" y="2514600"/>
            <a:ext cx="2869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لا نستطيع ارسال فواتير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ى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124080"/>
            <a:ext cx="196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بضائع لم يستلمها ال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577960"/>
            <a:ext cx="36576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نتيجة ارسال فواتير خاطئة وتحمل تكاليف ادارية لاداعى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حصيل قيم البضاعة اوالخدمة نتيجة عدم اصدار فاتور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9718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962520"/>
            <a:ext cx="12952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جميع الفواتير ومراجعتها حسابي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114800"/>
            <a:ext cx="1886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 الفواتير اوتسجيلها بقيمتها الخاطئ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4114800"/>
            <a:ext cx="365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وجود ارصدة دائنة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مالية غير صحيح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5334120"/>
            <a:ext cx="12952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الأحتفاظ بدفتر استاذ مساعد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56386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3360" y="5337000"/>
            <a:ext cx="18860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ظهور اجمالى المديونية دون تحديد رصيد كل 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410080"/>
            <a:ext cx="3657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تتبع الأرصدة التى مضى تاريخ استحقاق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المطابقة مع العميل فى حالة عدم الأتفا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55627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الرقابة الداخل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905120"/>
            <a:ext cx="592956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جميع المعاملات المعتمدة قد تم تسجيلها فى الوقت الصحيح وبالقيم الصحيحة فى الحسابات الصحيحة وفى الفترة المحاسبية الخاصة 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من له حق التعامل مع الأصول هو الذى يقوم بذ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ه قد تم مقارنة ماتم تسجيله بالدفاتر مع الموجود فعل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وجه التشابه بين الأجراءات الرقابية على المبيعات والمشتر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752480"/>
            <a:ext cx="8305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ندات مسلسلة مع مرجعة لاحقة للتسلسل لضمان الأكتما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9092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المجموعات واجماليات رقابية اخرى فى مرحلة الأدخال مع مراجعة لاحقة للمخرجات للتأكد من الأكتمال والد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58128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حسابات المراقبة والتاكد من مطابقتها مع دفتر الأستاذ العام والأستاذ المساع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3060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سلطات اعتماد مناسبة عن طريق توقيع الأشخاص المسئولين لانشاء وادخال وتوزيع المستند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5181480"/>
            <a:ext cx="809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شمل اختبارات الرقابة الحصول على ادلة أن الأجراءات السابق الأشارة اليها قد تم تطبيقها وفى العادة يبحث المراجع عن دليل يوضح ان اجراء الرقابة قد تم تنفيذه مثل التوق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اطر الرئيسية المتعلقة بدورتى  المبيعات والمشتريات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752480"/>
            <a:ext cx="8305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شل دورة المبيعات ودورة المشتريات فى تحقيق اهداف المنشأة والتى قد ينتج عنها خسائر مالية  أو تا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59092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ء بضائع غالية الثمن اوغير مناسبة مما يؤدى الى الأنحراف عن الموازنة التقديرية و تحقيق خسائ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خفاق فى شراء بضائع او خدمات فى الوقت المناسب والذى قد يؤدى الى عدم الأنتهاء فى المواعيد المطلوب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53060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دوث مشتريات اوعمليات بيع غير سليمة مما قد يؤدى الى خسائر مالية أو حدوث تأ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6:06:08Z</dcterms:created>
  <dc:creator>agamal</dc:creator>
  <dc:description/>
  <dc:language>en-US</dc:language>
  <cp:lastModifiedBy>agamal</cp:lastModifiedBy>
  <dcterms:modified xsi:type="dcterms:W3CDTF">2003-05-02T23:10:34Z</dcterms:modified>
  <cp:revision>8</cp:revision>
  <dc:subject/>
  <dc:title>أهداف واجراءات واختبارات الرقابة الداخلية وبعض اجراءات التحقق</dc:title>
</cp:coreProperties>
</file>